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highchime.wav" ContentType="audio/x-wav"/>
  <Override PartName="/ppt/media/hzipup01.wav" ContentType="audio/x-wav"/>
  <Override PartName="/ppt/media/jetflyby2.wav" ContentType="audio/x-wav"/>
  <Override PartName="/ppt/media/bserie06.wav" ContentType="audio/x-wav"/>
  <Override PartName="/ppt/media/peopleooo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5E6-3030-4286-893E-CB564661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636-B970-41A5-83FC-35373C87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0CE-B24F-4E0A-B129-A221AB7B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EA4-D973-4F89-A8C2-C7637C32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2D5-E326-4F1F-B877-BA852D0F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078A-1C24-42DB-AC00-3BC5B572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896-88FE-4415-8A77-FC98F6D0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946-D87E-460C-B109-0860B525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1E1E-E286-4B37-AEEA-613EC03B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FC2-FEB2-42A7-BF34-A633FBF0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177-15E3-40DC-B24B-C1056601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462-F055-44F8-918A-2F1BC2C5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6075-6D0F-42A6-B8D5-233323805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jetflyby2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hzipup01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peopleooo.wav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hzipup01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peopleooo.wav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hzipup01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peopleooo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peopleooo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47760" y="1925640"/>
            <a:ext cx="4019400" cy="23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Are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1511280"/>
            <a:ext cx="9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.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4636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2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13000" y="128592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7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2920" y="1882800"/>
            <a:ext cx="11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29360" y="337824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40560" y="25383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32520" y="2738520"/>
            <a:ext cx="7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2520" y="3227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62800" y="3241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6160" y="12733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90600" y="4762440"/>
            <a:ext cx="2219400" cy="9169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04 m</a:t>
            </a:r>
            <a:r>
              <a:rPr b="0" lang="en-US" sz="4000" spc="-1" strike="noStrike" baseline="60000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47760" y="1936800"/>
          <a:ext cx="4022640" cy="2361960"/>
        </p:xfrm>
        <a:graphic>
          <a:graphicData uri="http://schemas.openxmlformats.org/drawingml/2006/table">
            <a:tbl>
              <a:tblPr/>
              <a:tblGrid>
                <a:gridCol w="236520"/>
                <a:gridCol w="236520"/>
                <a:gridCol w="236520"/>
                <a:gridCol w="237960"/>
                <a:gridCol w="233280"/>
                <a:gridCol w="239760"/>
                <a:gridCol w="236520"/>
                <a:gridCol w="236520"/>
                <a:gridCol w="235080"/>
                <a:gridCol w="236520"/>
                <a:gridCol w="236520"/>
                <a:gridCol w="239760"/>
                <a:gridCol w="233280"/>
                <a:gridCol w="238320"/>
                <a:gridCol w="236520"/>
                <a:gridCol w="236520"/>
                <a:gridCol w="236520"/>
              </a:tblGrid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6515280" y="379080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45200" y="3805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22880" y="458964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45480" y="44863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35800" y="44877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41960" y="3321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9640" y="44816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47760" y="1925640"/>
            <a:ext cx="4019400" cy="23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Are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9680" y="1511280"/>
            <a:ext cx="9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.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64636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4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3000" y="128592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9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2920" y="1882800"/>
            <a:ext cx="11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4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29360" y="337824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40560" y="25383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32520" y="2738520"/>
            <a:ext cx="7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32520" y="3227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3241800"/>
            <a:ext cx="9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6160" y="12733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90600" y="4762440"/>
            <a:ext cx="2219400" cy="9169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66 m</a:t>
            </a:r>
            <a:r>
              <a:rPr b="0" lang="en-US" sz="4000" spc="-1" strike="noStrike" baseline="60000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15280" y="379080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45200" y="3805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22880" y="458964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45480" y="44863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35800" y="44877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9640" y="44816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47760" y="1925640"/>
            <a:ext cx="4019400" cy="23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Are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9680" y="1511280"/>
            <a:ext cx="9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.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64636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6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13000" y="128592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0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2920" y="1882800"/>
            <a:ext cx="11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29360" y="337824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40560" y="25383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32520" y="2738520"/>
            <a:ext cx="7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2520" y="3227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3241800"/>
            <a:ext cx="9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90600" y="4762440"/>
            <a:ext cx="2219400" cy="9169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20 ft</a:t>
            </a:r>
            <a:r>
              <a:rPr b="0" lang="en-US" sz="4000" spc="-1" strike="noStrike" baseline="60000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15280" y="379080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45200" y="3805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22880" y="458964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45480" y="44863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35800" y="44877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9640" y="44816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47760" y="1925640"/>
            <a:ext cx="4019400" cy="1554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Are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9680" y="1511280"/>
            <a:ext cx="9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.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3040" y="227016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7 y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13000" y="128592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1 y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2920" y="1882800"/>
            <a:ext cx="11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29360" y="337824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40560" y="2538360"/>
            <a:ext cx="17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32520" y="2738520"/>
            <a:ext cx="7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2520" y="3227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3241800"/>
            <a:ext cx="9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90600" y="4762440"/>
            <a:ext cx="2408400" cy="9169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47 yd</a:t>
            </a:r>
            <a:r>
              <a:rPr b="0" lang="en-US" sz="4000" spc="-1" strike="noStrike" baseline="60000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55, 2 – 11 #1-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1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9-02T16:44:31Z</dcterms:modified>
  <cp:revision>58</cp:revision>
  <dc:subject/>
  <dc:title>Slide 1</dc:title>
</cp:coreProperties>
</file>